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D49-F22C-44F1-A533-834AA248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Cornelius horrified that we don’t divide these up further over time as structure changes.  Nice idea, but don’t know how practical in the short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erm-layer terms – mesoderm, ectoderm, endoderm – are used ambiguously.  They sometimes refer to the primary layers at the times they form, and sometimes, all derivates of a germ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A50-DEA4-4137-91E7-5FCF5461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ED6-0213-4EFE-8C3A-E6C57FC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67E-655B-448E-9875-A961EA8A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B95-99F0-4DC5-A7EC-B9AF02C9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994-BA3D-4B93-AC69-BF9A2A8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DDE-E7E0-4941-AD9B-A92AF0C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A2F-77C2-4216-A9A6-A713B61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DB4-7339-458E-952A-D63FD15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951-3BB2-4AD7-82A0-4D9D35B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6FA-16E6-4C17-9F1F-FC129F7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986-1E81-400D-8443-51556C30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3E7-9ED4-4A25-B036-D245C695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B0B9-F6E6-4DAA-BC32-4EF14B45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assification of developing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34936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tructures are typically classified by developmental biologists according to their f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ch terms are to find a home in CARO, they also need a structura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scellaneous structural types of develop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efined by developmental fate or potential.  Perhaps better defined purely structur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Note – mesenchyme is a mass noun (as opposed to a count noun – like neuron.  Should be referred to as ‘portion of mesenchyme’ according to Barry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nus is_a 'anatomical line' (?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that cuts across a contiguous tissue separating it into two groups of cells that do not mix during development.  Compartment boundaries have few, if any, morphological correlates, at least while they function as b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ere are two types of fate based differentia working to define thes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fate mapping probablistic (some defined percentage of cells in the structure have a specific fate) or deterministic (all the cells in the structure have a specific f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the structure contribute to 1 (more) mature structures, or multiple (more) matur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cope with these while keeping is_a siblings disj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are structurally types of tissue(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 Definition of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tomical structure which consist of similarly specialized cells and intracellular matrix, aggregated according to genetically determined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8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l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ynonym: field (?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r the majority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defined by lineage labelling as contributing the majority of its cells to some specified mature structure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lso inclusive and specific, as for promordium - see next slide… but this is tangled 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ord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ynonym: rudiment (?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one or a few mature structures and having morphologically distinct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ve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ure structures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inct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ature structure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– anlage, primordium distinction is largely down to presence of boundaries, should this be reflected in different structural categ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ivision of embryo established just prior to &amp;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gastrulation.  Initially constituting a contiguous tissue contributing all of its cells a large but limited set of mature anato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tod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sisting of cells unable to cross a *compartment boundary* to mix with cells in a neighbouring tissue with which it is contiguous during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can be structurally defined as anatomical sets (?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 layer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which is derived from the a single germ-lay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odermal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derived from the mesod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anlage and primordia can be is_a children of these ter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at stage, if any, do we stop classifying developing structures in this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70028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rms have multiple primordia and anlage as parts.  Different parts are instantiated at differ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ystem (e.g.- developing nervous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(cardinal) body part – e.g.- develop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organ (e.g.- developing b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11120" y="5684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ing X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3:50:57Z</dcterms:created>
  <dc:creator>David Osumi-Sutherland</dc:creator>
  <dc:description/>
  <dc:language>en-US</dc:language>
  <cp:lastModifiedBy>David Osumi-Sutherland</cp:lastModifiedBy>
  <dcterms:modified xsi:type="dcterms:W3CDTF">2006-09-18T15:54:47Z</dcterms:modified>
  <cp:revision>5</cp:revision>
  <dc:subject/>
  <dc:title>Slide 1</dc:title>
</cp:coreProperties>
</file>